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C87-6B08-4CC7-AF53-48FF3571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6FB-E3ED-47EF-BC10-B00F480F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233-5529-457A-8650-5F35F61A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3CE-AA0D-4668-8EE1-7941C20A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81B-B3D9-4864-A83D-B1DD8668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5CD9-BD2A-45EC-A648-1367E079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950-A09F-4172-B4E6-8B478671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F31-F71B-48F0-B720-1C319A16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936-3F29-4503-9533-8236D0A7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DCC-6ABE-4C5E-8160-738351A4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0BD-CE79-4D52-B468-B495CDC0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B60-734E-4258-9805-17201FA4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B0BF-1EC1-4AEA-AAE8-8FB3F3E9A7D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6 Imagen" descr="Informe_02a.jpg"/>
          <p:cNvPicPr/>
          <p:nvPr/>
        </p:nvPicPr>
        <p:blipFill>
          <a:blip r:embed="rId1"/>
          <a:stretch/>
        </p:blipFill>
        <p:spPr>
          <a:xfrm>
            <a:off x="1709640" y="1197000"/>
            <a:ext cx="5724720" cy="3400560"/>
          </a:xfrm>
          <a:prstGeom prst="rect">
            <a:avLst/>
          </a:prstGeom>
          <a:ln w="0">
            <a:noFill/>
          </a:ln>
        </p:spPr>
      </p:pic>
      <p:pic>
        <p:nvPicPr>
          <p:cNvPr id="43" name="3 Imagen" descr="TAMAULIPAS COLOR HORIZONTAL.png"/>
          <p:cNvPicPr/>
          <p:nvPr/>
        </p:nvPicPr>
        <p:blipFill>
          <a:blip r:embed="rId2"/>
          <a:stretch/>
        </p:blipFill>
        <p:spPr>
          <a:xfrm>
            <a:off x="28440" y="61920"/>
            <a:ext cx="2644920" cy="803160"/>
          </a:xfrm>
          <a:prstGeom prst="rect">
            <a:avLst/>
          </a:prstGeom>
          <a:ln w="0">
            <a:noFill/>
          </a:ln>
        </p:spPr>
      </p:pic>
      <p:pic>
        <p:nvPicPr>
          <p:cNvPr id="44" name="4 Imagen" descr="LEMA HORIZONTAL CORTO COLOR.png"/>
          <p:cNvPicPr/>
          <p:nvPr/>
        </p:nvPicPr>
        <p:blipFill>
          <a:blip r:embed="rId3"/>
          <a:stretch/>
        </p:blipFill>
        <p:spPr>
          <a:xfrm>
            <a:off x="6462720" y="5857920"/>
            <a:ext cx="2538360" cy="744480"/>
          </a:xfrm>
          <a:prstGeom prst="rect">
            <a:avLst/>
          </a:prstGeom>
          <a:ln w="0">
            <a:noFill/>
          </a:ln>
        </p:spPr>
      </p:pic>
      <p:sp>
        <p:nvSpPr>
          <p:cNvPr id="45" name="11 CuadroTexto"/>
          <p:cNvSpPr/>
          <p:nvPr/>
        </p:nvSpPr>
        <p:spPr>
          <a:xfrm>
            <a:off x="1116000" y="45324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OFFEEC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ermiso de operación de fuentes fijas y Estacionarias emisoras de contaminantes de competencia est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ERMISO DE OPERACIÓN DE FUENTES FIJAS Y ESTACIONARIAS EMISORAS DE CONTAMINANTES DE COMPETENCIA ESTA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agina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agina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54000" y="2174760"/>
            <a:ext cx="3046680" cy="3951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5133960" y="2174760"/>
            <a:ext cx="30639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ERMISO DE OPERACIÓN DE FUENTES FIJAS Y ESTACIONARIAS EMISORAS DE CONTAMINANTES DE COMPETENCIA ESTA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agina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agina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941400" y="2174760"/>
            <a:ext cx="3071880" cy="395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5137200" y="2174760"/>
            <a:ext cx="30574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ERMISO DE OPERACIÓN DE FUENTES FIJAS Y ESTACIONARIAS EMISORAS DE CONTAMINANTES DE COMPETENCIA ESTA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Formato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agina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agina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947880" y="2174760"/>
            <a:ext cx="3058920" cy="3951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5137200" y="2174760"/>
            <a:ext cx="30574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ERMISO DE OPERACIÓN DE FUENTES FIJAS Y ESTACIONARIAS EMISORAS DE CONTAMINANTES DE COMPETENCIA ESTA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agina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agina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949320" y="2174760"/>
            <a:ext cx="3056040" cy="395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5135400" y="2174760"/>
            <a:ext cx="3060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ERMISO DE OPERACIÓN DE FUENTES FIJAS Y ESTACIONARIAS EMISORAS DE CONTAMINANTES DE COMPETENCIA ESTA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822400" y="1600200"/>
            <a:ext cx="3499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ERMISO DE OPERACIÓN DE FUENTES FIJAS Y ESTACIONARIAS EMISORAS DE CONTAMINANTES  COMPETENCIA ESTA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ndicionan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- Integrar un inventa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- Instalar equipo de prevención de la contamin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- Llevar a cabo una bitácora de operación y Mantenimiento de los equipos de prevención de la contamin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- Medir las emisiones conforme a la NOM por laboratorio certificado por la E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- Reportar resultados de pruebas de laboratorio los primeros tres meses del añ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- Dar aviso de inicio o paros de equipos emis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- Dar aviso en caso de que las emisiones rebasen los limites máximos permisi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- Dar aviso en caso de descompostura de equipos de control o emis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- Llevar a cabo una bitácora de operación y mantenimi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ERMISO DE OPERACIÓN DE FUENTES FIJAS Y ESTACIONARIAS EMISORAS DE CONTAMINANTES DE COMPETENCIA ESTAT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n el año del 2008 con la expedición del Código Ambiental se ve en la necesidad de crear el Permiso de Operación de Fuentes Fijas y Estacionarias Emisoras de Contaminantes de Competencia Estat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Del 2008 al 2009 la Agencia Ambienta trabaja en conjunto con la SEMARNAT para la creación del Permis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n el año 2010 se expiden 9 permisos de oper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Hasta la fecha se han expedido 32 permis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  <a:ea typeface="Calibri"/>
              </a:rPr>
              <a:t>PERMISO DE OPERACIONES DE FUENTES FIJAS Y ESTACIONARIAS EMISORAS DE CONTAMINANTES DE COMPETENCIA ESTATA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105228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FUNDAMENTO LEG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Ley General del Equilibrio Ecológico y la Protección al Ambient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Son Facultad de: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Articulo 5º.-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Articulo 7º.-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Articulo 8º-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Articulo 111 BIS.- y  17Bis ( Del Reglamento en emisione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</a:rPr>
              <a:t>Consideran fuentes fijas de jurisdicción federal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A) Industria del petróleo y petroquími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B) Industria quími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C) Industria de pinturas y tinta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D) Industria metalúrgi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E) Industria automotriz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F) Industria de la Celulosa y el pap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G) Industria cementera y cale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H) Industria del asbest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I) Industria del vidri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J) Generación de energía eléctri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k) Tratamiento de residuos peligroso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  <a:ea typeface="Calibri"/>
              </a:rPr>
              <a:t>PERMISO DE OPERACIÓN DE FUENTES FIJAS Y ESTACIONARIAS EMISORAS DE CONTAMINANTES DE COMPETENCIA ESTA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Código para Desarrollo Sustentable del Estado de Tamaulip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Artículo.- 82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a) Habla de las fuentes de competencia estat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todas las industrias excluidas en los artículos 111Bis de la LEGEEPA y 17 Bis d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b) Habla de las fuentes de competencia municip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De servicios y Comerci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Artículo.- 87  (Corresponde a lo responsables de fuentes fija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- Integrar un inventar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- Instalar equipo de prevención de la contamina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- Medir las emisi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- Llevar a cabo monitoreo perimet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- Dar aviso de inicio o paros de equipos emiso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- Dar aviso en caso de que las emisiones rebasen los limites máximos permisib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- Dar aviso en caso de descompostura de equipos de control o emiso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- Llevar a cabo una bitácora de operación y mantenimien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- Tramitar el POFFEEC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Ley de Hacienda para el Estado de Tamaulip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Artículo .-  7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XVI.- Por la recepción, evaluación y  resolución de nuevo permiso (20 días de salario mínimo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XVII.- Por la actualización y modificación de permiso (10 días de salario mínimo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ERMISO DE OPERACIÓN DE FUENTES FIJAS Y ESTACIONARIAS EMISORAS DE CONTAMINANTES DE COMPETENCIA ESTA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NORMAS OFICIALES MEXICAN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NOM-043-SEMARNAT-1993: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 Para fuentes fijas que emita contaminantes a la atmosfera (PST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Norma todos los equipos, como esmeriladoras, taladros, equipo de soldadura, rectificadoras, pulidoras, etc., que emiten emisiones a la atmosfera en la industr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NOM-085-SEMARNAT-1994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Para equipos de combustión de calentamiento directo e indirect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Norma que rige a los equipos que utilizan, combustibles fósiles, en estado solido, liquido o gaseoso; en el cual el calentamiento sea por los gases de combustión (combustión directa) o en forma indirecta que se encuentre una barrera entre los gases de combustión y el material a calentar.  Equipos de función, lavadoras, secadoras, calder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NOM-098-SEMARNAT-1994: 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Para equipos de incineración de residuos mediante pirolisis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Estos equipos son los que su finalidad es dar un tratamiento térmico y reducir los productos a sus características mas básicas. Equipos de incineración de basura, funerarias, antorchas de plasm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ERMISO DE OPERACIÓN DE FUENTES FIJAS Y ESTACIONARIAS EMISORAS DE CONTAMINANTES DE COMPETENCIA ESTA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iagrama de opera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055520" y="1639800"/>
            <a:ext cx="7032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ERMISO DE OPERACIÓN DE FUENTES FIJAS Y ESTACIONARIAS EMISORAS DE CONTAMINANTES DE COMPETENCIA ESTA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3508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300" spc="-1" strike="noStrike">
                <a:solidFill>
                  <a:srgbClr val="000000"/>
                </a:solidFill>
                <a:latin typeface="Calibri"/>
              </a:rPr>
              <a:t>La documentación que se piden para  realizar el análisis de la información para otorgar el Permiso de Operación de Fuentes Fijas y Estacionarias de Competencia Estatal son los siguiente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Oficio de present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Pase de p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Formato de regis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utorización de uso de sue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Registro Federal de Causan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cta constitutiva de la Empre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arta poder que acredite al representante legal de la empre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opia de identificación oficial de representante leg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arta poder que acredite al prestador de servici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opia de identificación oficial del prestador de servici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nálisis de laboratorio  de un laboratorio certificado por la EMA de la fuente emiso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Memoria de calculo de las emis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Descripción del proceso  productiv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Diagrama de proceso donde se indiquen los puntos donde se genera contaminación a la atmósf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Plano de localiz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Plano de distribución de maquinar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Programa de contingenci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opia de Permiso de operación de fuentes fijas y estacionarias emisoras de contaminantes competencia esta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opia de autorización de impacto ambi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Programa calendarizado de actividades a realizar que involucren a las fuentes de emisión en caso de solicitar permiso de operación tempor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ERMISO DE OPERACIÓN DE FUENTES FIJAS Y ESTACIONARIAS EMISORAS DE CONTAMINANTES COMPETENCIA ESTA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ase de pago permiso nuev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ase de pago ampliación de permi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5133960" y="2174760"/>
            <a:ext cx="3063960" cy="3951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912960" y="2174760"/>
            <a:ext cx="31287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ERMISO DE OPERACIONES DE FUENTES FIJAS Y ESTACIONARIAS EMISORAS DE CONTAMINANTES DE COMPETENCIA ESTA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Formato 1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agina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agina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942840" y="2174760"/>
            <a:ext cx="3068640" cy="395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135400" y="2174760"/>
            <a:ext cx="3060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7:52:53Z</dcterms:created>
  <dc:creator>Cristina Morales</dc:creator>
  <dc:description/>
  <dc:language>en-US</dc:language>
  <cp:lastModifiedBy>Said Tamez Lorenzano</cp:lastModifiedBy>
  <dcterms:modified xsi:type="dcterms:W3CDTF">2012-02-01T17:09:11Z</dcterms:modified>
  <cp:revision>183</cp:revision>
  <dc:subject/>
  <dc:title>Diapositiva 1</dc:title>
</cp:coreProperties>
</file>