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B49A-9C20-4FA6-8552-9AC063FDCE6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EDAE-22F4-495A-B150-3E3D9F62602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4EE78-8373-4715-93C6-F22544012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A02C0-273F-4F2C-BC7E-CCF6D85A4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615E0-B4FE-42FD-BBCD-308C8AD6D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0EC1F-9964-4878-AAFC-1E9B60E0F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C6175-4F3D-42DD-8E66-35E588893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8C94A-7BAE-483A-BB5E-A667BE0A6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4A18-84F3-45BE-B018-FA916B5C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E0221-E34C-496D-B566-0353432B2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6628B-2DF1-463B-A408-13D641335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40D42-AD5B-4FB3-8B04-5E5776DB1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1424F-EAA2-4247-B791-72FD973B9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CBF16-1CA1-4EDA-B8ED-FFA465A5C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FFF2-36F1-4B40-AC14-81A859E5D5E0}"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6480" y="-6480"/>
            <a:ext cx="9156960" cy="687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registro.ambienta@tamaulipas.gob.mx"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eduma.tamaulipas.gob.mx/"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3 Imagen" descr="TAMAULIPAS COLOR HORIZONTAL.png"/>
          <p:cNvPicPr/>
          <p:nvPr/>
        </p:nvPicPr>
        <p:blipFill>
          <a:blip r:embed="rId1"/>
          <a:stretch/>
        </p:blipFill>
        <p:spPr>
          <a:xfrm>
            <a:off x="28440" y="61920"/>
            <a:ext cx="2644920" cy="803160"/>
          </a:xfrm>
          <a:prstGeom prst="rect">
            <a:avLst/>
          </a:prstGeom>
          <a:ln w="0">
            <a:noFill/>
          </a:ln>
        </p:spPr>
      </p:pic>
      <p:pic>
        <p:nvPicPr>
          <p:cNvPr id="50" name="4 Imagen" descr="LEMA HORIZONTAL CORTO COLOR.png"/>
          <p:cNvPicPr/>
          <p:nvPr/>
        </p:nvPicPr>
        <p:blipFill>
          <a:blip r:embed="rId2"/>
          <a:stretch/>
        </p:blipFill>
        <p:spPr>
          <a:xfrm>
            <a:off x="6462720" y="5857920"/>
            <a:ext cx="2538360" cy="744480"/>
          </a:xfrm>
          <a:prstGeom prst="rect">
            <a:avLst/>
          </a:prstGeom>
          <a:ln w="0">
            <a:noFill/>
          </a:ln>
        </p:spPr>
      </p:pic>
      <p:sp>
        <p:nvSpPr>
          <p:cNvPr id="51" name="Rectangle 6"/>
          <p:cNvSpPr/>
          <p:nvPr/>
        </p:nvSpPr>
        <p:spPr>
          <a:xfrm>
            <a:off x="395280" y="1421640"/>
            <a:ext cx="80643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MANIFIESTOS DE ENTREGA, TRANSPORTE Y DESTINO FINAL   PARA EMPRESAS GENERADORAS DE  RESIDUOS DE MANEJO ESPECIAL Y GRANDES GENERADORES DE RESIDUOS SÓLIDOS  URBANOS</a:t>
            </a:r>
            <a:endParaRPr b="0" lang="en-US" sz="1600" spc="-1" strike="noStrike">
              <a:solidFill>
                <a:srgbClr val="000000"/>
              </a:solidFill>
              <a:latin typeface="Arial"/>
            </a:endParaRPr>
          </a:p>
        </p:txBody>
      </p:sp>
      <p:sp>
        <p:nvSpPr>
          <p:cNvPr id="52" name="10 CuadroTexto"/>
          <p:cNvSpPr/>
          <p:nvPr/>
        </p:nvSpPr>
        <p:spPr>
          <a:xfrm>
            <a:off x="1116000" y="7684920"/>
            <a:ext cx="6696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undamento leg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 fundamento en los artículos 7º fracción VI, 149 de la Ley General del Equilibrio Ecológico y la Protección al Ambiente; 1, fracción VI, 2 fracciones IV y V, 95, 98, Ley General para la Prevención y Gestión Integral de los Residuos, 134, 140, fracción III del Código para el Desarrollo Sustentable del Estado de Tamaulip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1 CuadroTexto"/>
          <p:cNvSpPr/>
          <p:nvPr/>
        </p:nvSpPr>
        <p:spPr>
          <a:xfrm>
            <a:off x="1116000" y="2852640"/>
            <a:ext cx="68407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CONCEPTO lgpgir:  </a:t>
            </a:r>
            <a:r>
              <a:rPr b="0" lang="es-MX" sz="3200" spc="-1" strike="noStrike">
                <a:solidFill>
                  <a:srgbClr val="000000"/>
                </a:solidFill>
                <a:latin typeface="Calibri"/>
              </a:rPr>
              <a:t>Documento en el cual se registran las actividades de manejo de residuos que deberán elaborar y conservar los generadores y, en su caso, los prestadores de servicios de manejo de dichos resid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MANIFIESTOS DE ENTREGA, TRANSPORTE Y DESTINO FINAL   PARA EMPRESAS GENERADORAS DE  RESIDUOS DE MANEJO ESPECIAL Y GRANDES GENERADORES DE RESIDUOS SÓLIDOS  URBANOS</a:t>
            </a:r>
            <a:endParaRPr b="0" lang="en-US" sz="1600" spc="-1" strike="noStrike">
              <a:solidFill>
                <a:srgbClr val="000000"/>
              </a:solidFill>
              <a:latin typeface="Calibri"/>
            </a:endParaRPr>
          </a:p>
        </p:txBody>
      </p:sp>
      <p:sp>
        <p:nvSpPr>
          <p:cNvPr id="71" name=""/>
          <p:cNvSpPr txBox="1"/>
          <p:nvPr/>
        </p:nvSpPr>
        <p:spPr>
          <a:xfrm>
            <a:off x="250560" y="1600200"/>
            <a:ext cx="8435880" cy="4997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cedimient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generadores de residuos de manejo especial y grandes generadores de residuos sólidos urbanos, solicitaran a la Secretaria de Desarrollo Urbano y Medio Ambiente (SEDUMA), a través de un escrito libre y formato de solicitud (proporcionado por la SEDUMA, disponible en seduma.tamaulipas.gob.mx), su inscripción y/o registro al sistema de manifiestos. La Secretaria de Desarrollo Urbano y Medio Ambiente, le resolverá al solicitante en un plazo no mayor a 10 días hábiles la resolución correspondient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 Secretaria de Desarrollo Urbano y Medio Ambiente (SEDUMA), proporcionará al solicitante su número de registro de identificación asignado para su empresa. Asimismo se le asignará un lote determinado de folios. Siendo estos los únicos que se utilizarán en el formato de manifiesto proporcionado por la SEDUMA.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generador utilizará y registrará su número de folios consecutivos.</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Una vez terminado dicho lote de folios el generador deberá notificar a la Secretaria de Desarrollo Urbano y Medio Ambiente, la utilización del segundo lote, siendo este consecutivo al primero.</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generador deberá entregar al transportista por cada embarque un manifiesto en original y tres copias, todos estos firmados.</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generador, conservará una de las copias, la cual tiene que estar firmada por el transportista, como comprobante del embarqu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transportista tendrá bajo su resguardo el manifiesto original y conservará una de las copias para su archivo, debiendo firmar el manifiesto en el apartado correspondient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transportista entregará al destinatario, original y copia del manifiesto en el momento de entregar los residuos para almacenamiento, reciclaje, acopio, tratamiento y/o disposición final.</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destinatario conservará la copia del manifiesto que le entrega el transportista para archivo y firmara de conformidad el original entregándoselo al transportist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MANIFIESTOS DE ENTREGA, TRANSPORTE Y DESTINO FINAL   PARA EMPRESAS GENERADORAS DE  RESIDUOS DE MANEJO ESPECIAL Y GRANDES GENERADORES DE RESIDUOS SÓLIDOS  URBANOS</a:t>
            </a:r>
            <a:endParaRPr b="0" lang="en-US" sz="1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transportista en su carácter de custodio del manifiesto original, deberá entregar al generador el manifiesto original.</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transportista deberá entregar al generador en un plazo no mayor a 30 días naturales el manifiesto original, de no hacerlo, el generador deberá notificar de inmediato a la Secretaria de Desarrollo Urbano y Medio Ambiente, para determinar lo que correspond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involucrados en el manejo integral de los residuos, deberá conservar los manifiestos sea en original o copia bajo su resguardo por un periodo de 2 años.</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generador, cuando por causas diversas cancele algún número de folio, deberá notificar en un plazo no mayor a 5 días hábiles a esta Secretaría de Desarrollo Urbano y Medio Ambiente, para el registro correspondiente.</a:t>
            </a:r>
            <a:endParaRPr b="0" lang="en-US" sz="1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El generador deberá presentar semestralmente escrito dirigido al titular de la Secretaria de Desarrollo Urbano y Medio Ambiente, en el cual se anexen reporte de manifiestos de manera consecutiva, según le fueron otorgados, anexando copia legible de estos y respaldo digital.</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6"/>
          <p:cNvSpPr/>
          <p:nvPr/>
        </p:nvSpPr>
        <p:spPr>
          <a:xfrm>
            <a:off x="971640" y="825480"/>
            <a:ext cx="7561080" cy="3070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IAGRAMA DEL PROCEDIMIENTO DE MANIFIESTO DE  RESIDUOS DE MANEJO ESPECIAL</a:t>
            </a:r>
            <a:endParaRPr b="0" lang="en-US" sz="1400" spc="-1" strike="noStrike">
              <a:solidFill>
                <a:srgbClr val="000000"/>
              </a:solidFill>
              <a:latin typeface="Arial"/>
            </a:endParaRPr>
          </a:p>
        </p:txBody>
      </p:sp>
      <p:grpSp>
        <p:nvGrpSpPr>
          <p:cNvPr id="76" name="Group 359"/>
          <p:cNvGrpSpPr/>
          <p:nvPr/>
        </p:nvGrpSpPr>
        <p:grpSpPr>
          <a:xfrm>
            <a:off x="324000" y="1380960"/>
            <a:ext cx="8329320" cy="4951440"/>
            <a:chOff x="324000" y="1380960"/>
            <a:chExt cx="8329320" cy="4951440"/>
          </a:xfrm>
        </p:grpSpPr>
        <p:sp>
          <p:nvSpPr>
            <p:cNvPr id="77" name="Rectangle 7"/>
            <p:cNvSpPr/>
            <p:nvPr/>
          </p:nvSpPr>
          <p:spPr>
            <a:xfrm>
              <a:off x="324000" y="1380960"/>
              <a:ext cx="8329320" cy="4951440"/>
            </a:xfrm>
            <a:prstGeom prst="rect">
              <a:avLst/>
            </a:prstGeom>
            <a:noFill/>
            <a:ln w="1908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Group 357"/>
            <p:cNvGrpSpPr/>
            <p:nvPr/>
          </p:nvGrpSpPr>
          <p:grpSpPr>
            <a:xfrm>
              <a:off x="462600" y="1428840"/>
              <a:ext cx="4243680" cy="4375440"/>
              <a:chOff x="462600" y="1428840"/>
              <a:chExt cx="4243680" cy="4375440"/>
            </a:xfrm>
          </p:grpSpPr>
          <p:grpSp>
            <p:nvGrpSpPr>
              <p:cNvPr id="79" name="Group 351"/>
              <p:cNvGrpSpPr/>
              <p:nvPr/>
            </p:nvGrpSpPr>
            <p:grpSpPr>
              <a:xfrm>
                <a:off x="462600" y="1428840"/>
                <a:ext cx="3747240" cy="4375440"/>
                <a:chOff x="462600" y="1428840"/>
                <a:chExt cx="3747240" cy="4375440"/>
              </a:xfrm>
            </p:grpSpPr>
            <p:grpSp>
              <p:nvGrpSpPr>
                <p:cNvPr id="80" name="Group 197"/>
                <p:cNvGrpSpPr/>
                <p:nvPr/>
              </p:nvGrpSpPr>
              <p:grpSpPr>
                <a:xfrm>
                  <a:off x="1010520" y="1428840"/>
                  <a:ext cx="1007280" cy="676800"/>
                  <a:chOff x="1010520" y="1428840"/>
                  <a:chExt cx="1007280" cy="676800"/>
                </a:xfrm>
              </p:grpSpPr>
              <p:sp>
                <p:nvSpPr>
                  <p:cNvPr id="81" name="Line 9"/>
                  <p:cNvSpPr/>
                  <p:nvPr/>
                </p:nvSpPr>
                <p:spPr>
                  <a:xfrm>
                    <a:off x="1513440" y="1789200"/>
                    <a:ext cx="0" cy="316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3"/>
                  <p:cNvSpPr/>
                  <p:nvPr/>
                </p:nvSpPr>
                <p:spPr>
                  <a:xfrm>
                    <a:off x="1010520" y="1428840"/>
                    <a:ext cx="1007280" cy="337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nicio</a:t>
                    </a:r>
                    <a:endParaRPr b="0" lang="en-US" sz="1600" spc="-1" strike="noStrike">
                      <a:solidFill>
                        <a:srgbClr val="000000"/>
                      </a:solidFill>
                      <a:latin typeface="Arial"/>
                    </a:endParaRPr>
                  </a:p>
                </p:txBody>
              </p:sp>
            </p:grpSp>
            <p:sp>
              <p:nvSpPr>
                <p:cNvPr id="83" name="Line 287"/>
                <p:cNvSpPr/>
                <p:nvPr/>
              </p:nvSpPr>
              <p:spPr>
                <a:xfrm flipV="1">
                  <a:off x="1403640" y="5516280"/>
                  <a:ext cx="0" cy="28800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Group 291"/>
                <p:cNvGrpSpPr/>
                <p:nvPr/>
              </p:nvGrpSpPr>
              <p:grpSpPr>
                <a:xfrm>
                  <a:off x="462600" y="1725840"/>
                  <a:ext cx="3608640" cy="920880"/>
                  <a:chOff x="462600" y="1725840"/>
                  <a:chExt cx="3608640" cy="920880"/>
                </a:xfrm>
              </p:grpSpPr>
              <p:sp>
                <p:nvSpPr>
                  <p:cNvPr id="85" name="Line 292"/>
                  <p:cNvSpPr/>
                  <p:nvPr/>
                </p:nvSpPr>
                <p:spPr>
                  <a:xfrm>
                    <a:off x="1711440" y="1725840"/>
                    <a:ext cx="2359440" cy="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93"/>
                  <p:cNvSpPr/>
                  <p:nvPr/>
                </p:nvSpPr>
                <p:spPr>
                  <a:xfrm>
                    <a:off x="4071240" y="1725840"/>
                    <a:ext cx="0" cy="92088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94"/>
                  <p:cNvSpPr/>
                  <p:nvPr/>
                </p:nvSpPr>
                <p:spPr>
                  <a:xfrm flipH="1">
                    <a:off x="462600" y="2646720"/>
                    <a:ext cx="3608640" cy="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349"/>
                <p:cNvGrpSpPr/>
                <p:nvPr/>
              </p:nvGrpSpPr>
              <p:grpSpPr>
                <a:xfrm>
                  <a:off x="537840" y="3683160"/>
                  <a:ext cx="3672000" cy="1669680"/>
                  <a:chOff x="537840" y="3683160"/>
                  <a:chExt cx="3672000" cy="1669680"/>
                </a:xfrm>
              </p:grpSpPr>
              <p:sp>
                <p:nvSpPr>
                  <p:cNvPr id="89" name="Line 296"/>
                  <p:cNvSpPr/>
                  <p:nvPr/>
                </p:nvSpPr>
                <p:spPr>
                  <a:xfrm>
                    <a:off x="2405520" y="4604400"/>
                    <a:ext cx="1803960" cy="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97"/>
                  <p:cNvSpPr/>
                  <p:nvPr/>
                </p:nvSpPr>
                <p:spPr>
                  <a:xfrm>
                    <a:off x="4209840" y="4604400"/>
                    <a:ext cx="0" cy="74844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98"/>
                  <p:cNvSpPr/>
                  <p:nvPr/>
                </p:nvSpPr>
                <p:spPr>
                  <a:xfrm flipH="1">
                    <a:off x="600840" y="5352840"/>
                    <a:ext cx="3608280" cy="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99"/>
                  <p:cNvSpPr/>
                  <p:nvPr/>
                </p:nvSpPr>
                <p:spPr>
                  <a:xfrm>
                    <a:off x="2405520" y="3683160"/>
                    <a:ext cx="0" cy="92124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300"/>
                  <p:cNvSpPr/>
                  <p:nvPr/>
                </p:nvSpPr>
                <p:spPr>
                  <a:xfrm>
                    <a:off x="537840" y="4331880"/>
                    <a:ext cx="1803960" cy="0"/>
                  </a:xfrm>
                  <a:prstGeom prst="line">
                    <a:avLst/>
                  </a:prstGeom>
                  <a:ln w="9360">
                    <a:solidFill>
                      <a:srgbClr val="eeec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4" name="Text Box 78"/>
              <p:cNvSpPr/>
              <p:nvPr/>
            </p:nvSpPr>
            <p:spPr>
              <a:xfrm>
                <a:off x="4349520" y="1734480"/>
                <a:ext cx="277200" cy="23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316"/>
              <p:cNvSpPr/>
              <p:nvPr/>
            </p:nvSpPr>
            <p:spPr>
              <a:xfrm>
                <a:off x="4418640" y="2284920"/>
                <a:ext cx="287640" cy="23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343"/>
              <p:cNvSpPr/>
              <p:nvPr/>
            </p:nvSpPr>
            <p:spPr>
              <a:xfrm>
                <a:off x="2388600" y="2467080"/>
                <a:ext cx="4323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 name="87 Grupo"/>
          <p:cNvGrpSpPr/>
          <p:nvPr/>
        </p:nvGrpSpPr>
        <p:grpSpPr>
          <a:xfrm>
            <a:off x="611280" y="2143080"/>
            <a:ext cx="7632720" cy="703080"/>
            <a:chOff x="611280" y="2143080"/>
            <a:chExt cx="7632720" cy="703080"/>
          </a:xfrm>
        </p:grpSpPr>
        <p:sp>
          <p:nvSpPr>
            <p:cNvPr id="98" name="161 CuadroTexto"/>
            <p:cNvSpPr/>
            <p:nvPr/>
          </p:nvSpPr>
          <p:spPr>
            <a:xfrm>
              <a:off x="611280" y="2143080"/>
              <a:ext cx="1871640" cy="703080"/>
            </a:xfrm>
            <a:prstGeom prst="rect">
              <a:avLst/>
            </a:prstGeom>
            <a:solidFill>
              <a:srgbClr val="c6d9f1"/>
            </a:soli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GENERAD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olicitar a la SEDUMA  a través de escrito libre No. de Folios  para su inscripción  al sistema</a:t>
              </a:r>
              <a:endParaRPr b="0" lang="en-US" sz="1000" spc="-1" strike="noStrike">
                <a:solidFill>
                  <a:srgbClr val="000000"/>
                </a:solidFill>
                <a:latin typeface="Arial"/>
              </a:endParaRPr>
            </a:p>
          </p:txBody>
        </p:sp>
        <p:sp>
          <p:nvSpPr>
            <p:cNvPr id="99" name="164 CuadroTexto"/>
            <p:cNvSpPr/>
            <p:nvPr/>
          </p:nvSpPr>
          <p:spPr>
            <a:xfrm>
              <a:off x="2914560" y="2205000"/>
              <a:ext cx="2520720" cy="550800"/>
            </a:xfrm>
            <a:prstGeom prst="rect">
              <a:avLst/>
            </a:prstGeom>
            <a:solidFill>
              <a:srgbClr val="c6d9f1"/>
            </a:soli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Generador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deberá obtener Formato de Manifiesto de la pagina Web:seduma.tamaulipas.gob,mx</a:t>
              </a:r>
              <a:endParaRPr b="0" lang="en-US" sz="1000" spc="-1" strike="noStrike">
                <a:solidFill>
                  <a:srgbClr val="000000"/>
                </a:solidFill>
                <a:latin typeface="Arial"/>
              </a:endParaRPr>
            </a:p>
          </p:txBody>
        </p:sp>
        <p:sp>
          <p:nvSpPr>
            <p:cNvPr id="100" name="168 CuadroTexto"/>
            <p:cNvSpPr/>
            <p:nvPr/>
          </p:nvSpPr>
          <p:spPr>
            <a:xfrm>
              <a:off x="5867640" y="2226960"/>
              <a:ext cx="2376360" cy="550800"/>
            </a:xfrm>
            <a:prstGeom prst="rect">
              <a:avLst/>
            </a:prstGeom>
            <a:solidFill>
              <a:srgbClr val="c6d9f1"/>
            </a:solidFill>
            <a:ln w="190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Generador entrega al Transportista por cada embarque :</a:t>
              </a: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manifiesto original  </a:t>
              </a:r>
              <a:endParaRPr b="0" lang="en-US" sz="1000" spc="-1" strike="noStrike">
                <a:solidFill>
                  <a:srgbClr val="000000"/>
                </a:solidFill>
                <a:latin typeface="Arial"/>
              </a:endParaRPr>
            </a:p>
          </p:txBody>
        </p:sp>
      </p:grpSp>
      <p:sp>
        <p:nvSpPr>
          <p:cNvPr id="101" name="170 CuadroTexto"/>
          <p:cNvSpPr/>
          <p:nvPr/>
        </p:nvSpPr>
        <p:spPr>
          <a:xfrm>
            <a:off x="5724360" y="3278160"/>
            <a:ext cx="2735280" cy="1007640"/>
          </a:xfrm>
          <a:prstGeom prst="rect">
            <a:avLst/>
          </a:prstGeom>
          <a:solidFill>
            <a:srgbClr val="c6d9f1"/>
          </a:soli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Transportista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Tendrá bajo su resguardo</a:t>
            </a: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manifiesto original y deberá conservar una de las copias para archivo</a:t>
            </a: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firmar el original en el apartado correspondiente </a:t>
            </a:r>
            <a:endParaRPr b="0" lang="en-US" sz="1000" spc="-1" strike="noStrike">
              <a:solidFill>
                <a:srgbClr val="000000"/>
              </a:solidFill>
              <a:latin typeface="Arial"/>
            </a:endParaRPr>
          </a:p>
        </p:txBody>
      </p:sp>
      <p:grpSp>
        <p:nvGrpSpPr>
          <p:cNvPr id="102" name="86 Grupo"/>
          <p:cNvGrpSpPr/>
          <p:nvPr/>
        </p:nvGrpSpPr>
        <p:grpSpPr>
          <a:xfrm>
            <a:off x="900000" y="4653000"/>
            <a:ext cx="1295640" cy="576360"/>
            <a:chOff x="900000" y="4653000"/>
            <a:chExt cx="1295640" cy="576360"/>
          </a:xfrm>
        </p:grpSpPr>
        <p:sp>
          <p:nvSpPr>
            <p:cNvPr id="103" name="171 Terminador"/>
            <p:cNvSpPr/>
            <p:nvPr/>
          </p:nvSpPr>
          <p:spPr>
            <a:xfrm>
              <a:off x="900000" y="4653000"/>
              <a:ext cx="1295640" cy="576360"/>
            </a:xfrm>
            <a:prstGeom prst="flowChartTerminator">
              <a:avLst/>
            </a:prstGeom>
            <a:solidFill>
              <a:srgbClr val="c6d9f1"/>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172 CuadroTexto"/>
            <p:cNvSpPr/>
            <p:nvPr/>
          </p:nvSpPr>
          <p:spPr>
            <a:xfrm>
              <a:off x="1331640" y="4725000"/>
              <a:ext cx="518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in</a:t>
              </a:r>
              <a:endParaRPr b="0" lang="en-US" sz="1600" spc="-1" strike="noStrike">
                <a:solidFill>
                  <a:srgbClr val="000000"/>
                </a:solidFill>
                <a:latin typeface="Arial"/>
              </a:endParaRPr>
            </a:p>
          </p:txBody>
        </p:sp>
      </p:grpSp>
      <p:cxnSp>
        <p:nvCxnSpPr>
          <p:cNvPr id="105" name="174 Conector recto de flecha"/>
          <p:cNvCxnSpPr/>
          <p:nvPr/>
        </p:nvCxnSpPr>
        <p:spPr>
          <a:xfrm flipH="1">
            <a:off x="3993840" y="4349880"/>
            <a:ext cx="2160" cy="375120"/>
          </a:xfrm>
          <a:prstGeom prst="straightConnector1">
            <a:avLst/>
          </a:prstGeom>
          <a:ln w="19080">
            <a:solidFill>
              <a:srgbClr val="000000"/>
            </a:solidFill>
            <a:miter/>
            <a:tailEnd len="med" type="triangle" w="med"/>
          </a:ln>
        </p:spPr>
      </p:cxnSp>
      <p:sp>
        <p:nvSpPr>
          <p:cNvPr id="106" name="Line 343"/>
          <p:cNvSpPr/>
          <p:nvPr/>
        </p:nvSpPr>
        <p:spPr>
          <a:xfrm>
            <a:off x="7093080" y="2781360"/>
            <a:ext cx="0" cy="431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78 CuadroTexto"/>
          <p:cNvSpPr/>
          <p:nvPr/>
        </p:nvSpPr>
        <p:spPr>
          <a:xfrm>
            <a:off x="2916360" y="3287880"/>
            <a:ext cx="2232000" cy="1007640"/>
          </a:xfrm>
          <a:prstGeom prst="rect">
            <a:avLst/>
          </a:prstGeom>
          <a:solidFill>
            <a:srgbClr val="c6d9f1"/>
          </a:soli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Transportista  entrega al Destinatario</a:t>
            </a: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manifiesto original y deberá conservar una de las copias para archivo</a:t>
            </a: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firmar el original en el apartado correspondiente </a:t>
            </a:r>
            <a:endParaRPr b="0" lang="en-US" sz="1000" spc="-1" strike="noStrike">
              <a:solidFill>
                <a:srgbClr val="000000"/>
              </a:solidFill>
              <a:latin typeface="Arial"/>
            </a:endParaRPr>
          </a:p>
        </p:txBody>
      </p:sp>
      <p:sp>
        <p:nvSpPr>
          <p:cNvPr id="108" name="79 CuadroTexto"/>
          <p:cNvSpPr/>
          <p:nvPr/>
        </p:nvSpPr>
        <p:spPr>
          <a:xfrm>
            <a:off x="2843280" y="4727520"/>
            <a:ext cx="2376360" cy="855360"/>
          </a:xfrm>
          <a:prstGeom prst="rect">
            <a:avLst/>
          </a:prstGeom>
          <a:solidFill>
            <a:srgbClr val="c6d9f1"/>
          </a:soli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Destinatario</a:t>
            </a: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Conserva una de las copias del manifiesto para archivo</a:t>
            </a: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firmar el original en el apartado correspondiente </a:t>
            </a:r>
            <a:endParaRPr b="0" lang="en-US" sz="1000" spc="-1" strike="noStrike">
              <a:solidFill>
                <a:srgbClr val="000000"/>
              </a:solidFill>
              <a:latin typeface="Arial"/>
            </a:endParaRPr>
          </a:p>
        </p:txBody>
      </p:sp>
      <p:sp>
        <p:nvSpPr>
          <p:cNvPr id="109" name="Line 343"/>
          <p:cNvSpPr/>
          <p:nvPr/>
        </p:nvSpPr>
        <p:spPr>
          <a:xfrm>
            <a:off x="5435640" y="2492280"/>
            <a:ext cx="431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343"/>
          <p:cNvSpPr/>
          <p:nvPr/>
        </p:nvSpPr>
        <p:spPr>
          <a:xfrm flipH="1">
            <a:off x="5148360" y="3716280"/>
            <a:ext cx="576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83 CuadroTexto"/>
          <p:cNvSpPr/>
          <p:nvPr/>
        </p:nvSpPr>
        <p:spPr>
          <a:xfrm>
            <a:off x="684360" y="3441600"/>
            <a:ext cx="1871640" cy="703080"/>
          </a:xfrm>
          <a:prstGeom prst="rect">
            <a:avLst/>
          </a:prstGeom>
          <a:solidFill>
            <a:srgbClr val="c6d9f1"/>
          </a:soli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Transportis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En carácter de custodia   conserva  y entrega al Generador manifiesto original </a:t>
            </a:r>
            <a:endParaRPr b="0" lang="en-US" sz="1000" spc="-1" strike="noStrike">
              <a:solidFill>
                <a:srgbClr val="000000"/>
              </a:solidFill>
              <a:latin typeface="Arial"/>
            </a:endParaRPr>
          </a:p>
        </p:txBody>
      </p:sp>
      <p:sp>
        <p:nvSpPr>
          <p:cNvPr id="112" name="Line 343"/>
          <p:cNvSpPr/>
          <p:nvPr/>
        </p:nvSpPr>
        <p:spPr>
          <a:xfrm flipH="1" flipV="1">
            <a:off x="2555640" y="3708360"/>
            <a:ext cx="360360" cy="7920"/>
          </a:xfrm>
          <a:prstGeom prst="line">
            <a:avLst/>
          </a:prstGeom>
          <a:ln w="2232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cxnSp>
        <p:nvCxnSpPr>
          <p:cNvPr id="113" name="85 Conector recto de flecha"/>
          <p:cNvCxnSpPr/>
          <p:nvPr/>
        </p:nvCxnSpPr>
        <p:spPr>
          <a:xfrm>
            <a:off x="1618920" y="4206600"/>
            <a:ext cx="1080" cy="4467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Si se tiene algún problema, duda o sugerencia sobre el sistema de manifiesto hacerla llegar al corre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ff"/>
                </a:solidFill>
                <a:uFillTx/>
                <a:latin typeface="Calibri"/>
                <a:hlinkClick r:id="rId1"/>
              </a:rPr>
              <a:t>registro.ambienta@tamaulipas.gob.m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or su atención</a:t>
            </a:r>
            <a:br>
              <a:rPr sz="4400"/>
            </a:br>
            <a:br>
              <a:rPr sz="4400"/>
            </a:br>
            <a:r>
              <a:rPr b="0" lang="es-MX" sz="4400" spc="-1" strike="noStrike">
                <a:solidFill>
                  <a:srgbClr val="000000"/>
                </a:solidFill>
                <a:latin typeface="Calibri"/>
              </a:rPr>
              <a:t>Gracias</a:t>
            </a:r>
            <a:endParaRPr b="0" lang="en-US" sz="4400" spc="-1" strike="noStrike">
              <a:solidFill>
                <a:srgbClr val="000000"/>
              </a:solidFill>
              <a:latin typeface="Calibri"/>
            </a:endParaRPr>
          </a:p>
        </p:txBody>
      </p:sp>
      <p:pic>
        <p:nvPicPr>
          <p:cNvPr id="117" name="3 Imagen" descr="TAMAULIPAS COLOR HORIZONTAL.png"/>
          <p:cNvPicPr/>
          <p:nvPr/>
        </p:nvPicPr>
        <p:blipFill>
          <a:blip r:embed="rId1"/>
          <a:stretch/>
        </p:blipFill>
        <p:spPr>
          <a:xfrm>
            <a:off x="36360" y="31680"/>
            <a:ext cx="2644920" cy="803520"/>
          </a:xfrm>
          <a:prstGeom prst="rect">
            <a:avLst/>
          </a:prstGeom>
          <a:ln w="0">
            <a:noFill/>
          </a:ln>
        </p:spPr>
      </p:pic>
      <p:pic>
        <p:nvPicPr>
          <p:cNvPr id="118" name="4 Imagen" descr="LEMA HORIZONTAL CORTO COLOR.png"/>
          <p:cNvPicPr/>
          <p:nvPr/>
        </p:nvPicPr>
        <p:blipFill>
          <a:blip r:embed="rId2"/>
          <a:stretch/>
        </p:blipFill>
        <p:spPr>
          <a:xfrm>
            <a:off x="6462720" y="5857920"/>
            <a:ext cx="2538360" cy="74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MANIFIESTOS DE ENTREGA, TRANSPORTE Y DESTINO FINAL   PARA EMPRESAS GENERADORAS DE  RESIDUOS DE MANEJO ESPECIAL Y GRANDES GENERADORES DE RESIDUOS SÓLIDOS  URBANOS</a:t>
            </a:r>
            <a:br>
              <a:rPr sz="1600"/>
            </a:br>
            <a:endParaRPr b="0" lang="en-US" sz="1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Fundamento legal:</a:t>
            </a:r>
            <a:endParaRPr b="0" lang="en-US" sz="3200" spc="-1" strike="noStrike">
              <a:solidFill>
                <a:srgbClr val="000000"/>
              </a:solidFill>
              <a:latin typeface="Calibri"/>
            </a:endParaRPr>
          </a:p>
          <a:p>
            <a:pPr marL="325800" indent="-3258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3200" spc="-1" strike="noStrike">
                <a:solidFill>
                  <a:srgbClr val="000000"/>
                </a:solidFill>
                <a:latin typeface="Calibri"/>
              </a:rPr>
              <a:t>Con fundamento en los artículos 7º fracción VI, 149 de la Ley General del Equilibrio Ecológico y la Protección al Ambiente; 1, fracción VI, 2 fracciones IV y V, 95, 98, Ley General para la Prevención y Gestión Integral de los Residuos, 134, 140, fracción III del Código para el Desarrollo Sustentable del Estado de Tamaulipas.</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MANIFIESTOS DE ENTREGA, TRANSPORTE Y DESTINO FINAL   PARA EMPRESAS GENERADORAS DE  RESIDUOS DE MANEJO ESPECIAL Y GRANDES GENERADORES DE RESIDUOS SÓLIDOS  URBANOS</a:t>
            </a:r>
            <a:endParaRPr b="0" lang="en-US" sz="1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Quiénes deben de inscribirse al sistema de manifiestos?</a:t>
            </a:r>
            <a:endParaRPr b="0" lang="en-US" sz="3200" spc="-1" strike="noStrike">
              <a:solidFill>
                <a:srgbClr val="000000"/>
              </a:solidFill>
              <a:latin typeface="Calibri"/>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Documento de carácter obligatorio para las empresas generadoras de residuos de manejo especial y grandes generadores de residuos sólidos urbanos, cuyo objetivo es  registrar las actividades de manejo integral de los residuos, en el cual se informe sobre la naturaleza y cantidades de los residuos generados, la transferencia de los mismo y procesos de tratamiento y/o disposición final.</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Requisitos para la inscripción al sistema de manifiestos </a:t>
            </a:r>
            <a:endParaRPr b="0" lang="en-US" sz="1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1.- </a:t>
            </a:r>
            <a:r>
              <a:rPr b="0" lang="es-ES" sz="1600" spc="-1" strike="noStrike">
                <a:solidFill>
                  <a:srgbClr val="000000"/>
                </a:solidFill>
                <a:latin typeface="Calibri"/>
              </a:rPr>
              <a:t>Deberá indicar el nombre, denominación o razón social del generador de los residuos de manejo especial, de acuerdo al Acta Constitutiva y/o registro federal de contribuyen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2.- </a:t>
            </a:r>
            <a:r>
              <a:rPr b="0" lang="es-ES" sz="1600" spc="-1" strike="noStrike">
                <a:solidFill>
                  <a:srgbClr val="000000"/>
                </a:solidFill>
                <a:latin typeface="Calibri"/>
              </a:rPr>
              <a:t>Anexar copia de acreditación del representante leg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3.- </a:t>
            </a:r>
            <a:r>
              <a:rPr b="0" lang="es-ES" sz="1600" spc="-1" strike="noStrike">
                <a:solidFill>
                  <a:srgbClr val="000000"/>
                </a:solidFill>
                <a:latin typeface="Calibri"/>
              </a:rPr>
              <a:t>Anexar copia de comprobante de domicilio reciente de la empresa o persona fís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4.- </a:t>
            </a:r>
            <a:r>
              <a:rPr b="0" lang="es-ES" sz="1600" spc="-1" strike="noStrike">
                <a:solidFill>
                  <a:srgbClr val="000000"/>
                </a:solidFill>
                <a:latin typeface="Calibri"/>
              </a:rPr>
              <a:t>Anexar copia de clave de Registro Estatal Ambiental (RE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5.- </a:t>
            </a:r>
            <a:r>
              <a:rPr b="0" lang="es-ES" sz="1600" spc="-1" strike="noStrike">
                <a:solidFill>
                  <a:srgbClr val="000000"/>
                </a:solidFill>
                <a:latin typeface="Calibri"/>
              </a:rPr>
              <a:t>Anexar copia del Registro de Plan de Manejo de Residuos de Manejo Especial.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6.-</a:t>
            </a:r>
            <a:r>
              <a:rPr b="0" lang="es-ES" sz="1600" spc="-1" strike="noStrike">
                <a:solidFill>
                  <a:srgbClr val="000000"/>
                </a:solidFill>
                <a:latin typeface="Calibri"/>
              </a:rPr>
              <a:t>Anexar copia de RFC.</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7</a:t>
            </a:r>
            <a:r>
              <a:rPr b="0" lang="es-ES" sz="1600" spc="-1" strike="noStrike">
                <a:solidFill>
                  <a:srgbClr val="000000"/>
                </a:solidFill>
                <a:latin typeface="Calibri"/>
              </a:rPr>
              <a:t>.-Anexar acreditación del prestador de servicios para realizar el trámite ante esta Dependenci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000000"/>
                </a:solidFill>
                <a:latin typeface="Calibri"/>
              </a:rPr>
              <a:t>8</a:t>
            </a:r>
            <a:r>
              <a:rPr b="0" lang="es-ES" sz="1600" spc="-1" strike="noStrike">
                <a:solidFill>
                  <a:srgbClr val="000000"/>
                </a:solidFill>
                <a:latin typeface="Calibri"/>
              </a:rPr>
              <a:t>.-El formato de solicitud para la inscripción al sistema de manifiestos, proporcionado por la SEDUMA, estará disponible en la pagina </a:t>
            </a:r>
            <a:r>
              <a:rPr b="0" lang="es-ES" sz="1600" spc="-1" strike="noStrike" u="sng">
                <a:solidFill>
                  <a:srgbClr val="0000ff"/>
                </a:solidFill>
                <a:uFillTx/>
                <a:latin typeface="Calibri"/>
                <a:hlinkClick r:id="rId1"/>
              </a:rPr>
              <a:t>www.seduma.tamaulipas.gob.mx</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81440" y="1268280"/>
            <a:ext cx="513396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9.-Se deberá elaborar un oficio dirigido a:</a:t>
            </a:r>
            <a:br>
              <a:rPr sz="1600"/>
            </a:br>
            <a:endParaRPr b="0" lang="en-US" sz="1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G. HOMERO DE LA GARZA TAMEZ</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CRETARIO DE DESARROLLO URBANO Y MEDIO AMBIEN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GOBIERNO DEL ESTADO DE TAMAULIPA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Con Atención 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Oceanologo Heberto Cavazos Llitera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ubsecretario de Medio Ambien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Cd. Victoria Tamaulipa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OS DOCUMENTOS SE ENTREGAN EN VENTANILLA ÚNICA DE LA SECRETARIA DE DESARROLL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URBANO Y MEDIO AMBIEN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MANIFIESTOS DE ENTREGA, TRANSPORTE Y DESTINO FINAL   PARA EMPRESAS GENERADORAS DE  RESIDUOS DE MANEJO ESPECIAL Y GRANDES GENERADORES DE RESIDUOS SÓLIDOS  URBANOS</a:t>
            </a:r>
            <a:endParaRPr b="0" lang="en-US" sz="1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No. manifiesto: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28-32-REA-MRME-00001-2012</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28- Entidad Federativ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32- Municipi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A- Numero de clave registro estatal ambienta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RME- Manifiesto de residuos de manejo especial o en su caso agregar el numero de registro de plan de manej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00001-número consecutivo de manifiesto otorgado por la SEDUM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2012 – año de expedició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1020" t="0" r="0" b="50417"/>
          <a:stretch/>
        </p:blipFill>
        <p:spPr>
          <a:xfrm>
            <a:off x="684360" y="836640"/>
            <a:ext cx="7869240" cy="5545080"/>
          </a:xfrm>
          <a:prstGeom prst="rect">
            <a:avLst/>
          </a:prstGeom>
          <a:ln w="0">
            <a:noFill/>
          </a:ln>
        </p:spPr>
      </p:pic>
      <p:sp>
        <p:nvSpPr>
          <p:cNvPr id="65" name="4 CuadroTexto"/>
          <p:cNvSpPr/>
          <p:nvPr/>
        </p:nvSpPr>
        <p:spPr>
          <a:xfrm>
            <a:off x="2843280" y="189000"/>
            <a:ext cx="31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Generad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Transportista</a:t>
            </a:r>
            <a:endParaRPr b="0" lang="en-US" sz="1600" spc="-1" strike="noStrike">
              <a:solidFill>
                <a:srgbClr val="000000"/>
              </a:solidFill>
              <a:latin typeface="Calibri"/>
            </a:endParaRPr>
          </a:p>
        </p:txBody>
      </p:sp>
      <p:pic>
        <p:nvPicPr>
          <p:cNvPr id="67" name="Picture 1" descr=""/>
          <p:cNvPicPr/>
          <p:nvPr/>
        </p:nvPicPr>
        <p:blipFill>
          <a:blip r:embed="rId1"/>
          <a:srcRect l="2065" t="50159" r="0" b="24004"/>
          <a:stretch/>
        </p:blipFill>
        <p:spPr>
          <a:xfrm>
            <a:off x="755640" y="1557360"/>
            <a:ext cx="8115480" cy="31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stinatario</a:t>
            </a:r>
            <a:endParaRPr b="0" lang="en-US" sz="1600" spc="-1" strike="noStrike">
              <a:solidFill>
                <a:srgbClr val="000000"/>
              </a:solidFill>
              <a:latin typeface="Calibri"/>
            </a:endParaRPr>
          </a:p>
        </p:txBody>
      </p:sp>
      <p:pic>
        <p:nvPicPr>
          <p:cNvPr id="69" name="Picture 2" descr=""/>
          <p:cNvPicPr/>
          <p:nvPr/>
        </p:nvPicPr>
        <p:blipFill>
          <a:blip r:embed="rId1"/>
          <a:srcRect l="1835" t="76024" r="0" b="0"/>
          <a:stretch/>
        </p:blipFill>
        <p:spPr>
          <a:xfrm>
            <a:off x="539640" y="1844640"/>
            <a:ext cx="843444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7:52:53Z</dcterms:created>
  <dc:creator>Cristina Morales</dc:creator>
  <dc:description/>
  <dc:language>en-US</dc:language>
  <cp:lastModifiedBy>aire-pc</cp:lastModifiedBy>
  <dcterms:modified xsi:type="dcterms:W3CDTF">2012-01-31T18:43:17Z</dcterms:modified>
  <cp:revision>135</cp:revision>
  <dc:subject/>
  <dc:title>Diapositiva 1</dc:title>
</cp:coreProperties>
</file>